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146-CBFE-467B-9769-5555A33A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3130-0553-4BC1-B16B-99790AA1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775-7DD8-432B-B8FD-EE8D58AA2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E27-921B-4C1F-B873-84714ECB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DBBC-7FA3-4E6F-9F63-3913A649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006-6FFF-4E5B-84D0-2721226D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560-7F81-4FC0-8CAC-2004D0A8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9B4-6FC1-4C55-AD1E-576BDA71E6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369-6D62-41FF-BB3D-00847A1D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EDB9-8634-4D12-8861-EC5572B0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102-7F7D-40DF-AEB8-55FB10D7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E5F-8DD5-4A8C-A8B0-E4720A2E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4EC9-44DF-42C4-A76B-4AB487D6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8FE-AB8F-421F-8005-CBE36608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7C5-DC6C-4694-ADFE-9B87DD6C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152-C80B-4AE0-943A-12B98B66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43F-FCA3-4741-8399-9385F0CC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2A28-6962-4A0E-A2C8-D83359FB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C68-7469-491A-8EA5-1F591B87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E10-E7F0-4650-ADB9-C6601D92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E8CF-06A0-40D9-803B-C8167052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CB39-465E-4635-9CB2-83E7F3ED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6C61-4E02-4E3F-91C4-56B0E4DF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162-BA0B-40E7-91DE-3C0119A5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F972-8398-413E-8475-97AEFE49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75A-D63F-45CA-831C-69488C16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942-1FB1-4E35-8EC6-E59C6743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86D-6F92-4554-80E2-488E3160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5963-F233-4720-BC83-6A5EDD39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D1A-973E-46AC-96B1-FFA59ECA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CCAA-7F2A-4242-B31F-C0CEF56A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65A-950A-46F7-9DC1-417B5785F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7D05-39A3-4FDA-AA89-C3D79E69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E2C-E33A-4DC1-A3B1-A3B0C1FC5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079-BBAA-4314-B0CA-1AED39B1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0C6-E7F7-4AF5-B8A9-0592F931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76D-AA35-44B1-AC90-9AC63B3E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61A9-3814-4104-8374-41F303DA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398-0C2D-4752-96F7-B5754A3A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7135-353D-411A-8B87-4A5A96C2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0D89-BC40-4D6F-AA81-C5EBCC90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AE6-6835-49F3-9A4D-1825918B1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75E0-AB86-4570-99BB-A70B954C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2F5-CE67-4EA0-ACB0-2C1A5167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5F8-AC75-49E9-8DE1-F41CECACE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1639-FBB2-47F2-A9A0-FE7DE546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327-B114-434D-9784-48D7CF71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F46-8A0C-44B6-8DB0-47E73C10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1D14-14EE-46D2-B411-A5B6CC38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AC6-D113-4C8C-A0C7-6575177B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F787-04C6-4617-8309-38853323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F99-D85D-4084-8734-46DFC4ED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FDA-10DC-427D-A84B-7EEF9B0C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202-6934-44BE-989E-03B748F4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81C7-8E6F-49A5-A918-DD1187E4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6DD-CBD4-49AF-A882-329C23C6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FB3-A3E1-4A88-8B3E-3676961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85B-EE0F-4169-B640-DF634621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BD4-9705-4C51-A5F8-B37CFED4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1195-F538-4A9B-BAC2-CED9F7A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804-3527-4FA0-B344-535FB20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4699-3F53-4DF5-AA7E-CE88E69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5E9F-4472-4ADC-A977-DD4A5087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37A4-A7DA-42AB-832D-CDE1F3D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4C75-C78B-4DC7-B597-F09F68C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F03-3C6F-4E1A-A472-09B45B77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985-E269-4DE0-BA6A-D1DF0E3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8CB-2816-4311-8AC4-2E30B56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364-0CF2-4EF2-8A40-D9A8849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EC34-83B7-4DB5-8593-C943FB3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FB1B-6152-4212-8073-BF27DAD5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0B5F-C36D-43B7-835C-AF4D5F8D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E2E-32BA-4F80-B57D-B2F13D44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1D2-0595-4C6F-881F-3D70FD2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0FF-D6EF-41B3-A550-73EB6FFF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D9D-7D6C-40A7-A608-8E50373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FBE-17C7-4B92-99D6-8B561F7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EA0-FE55-4F1A-B4C0-DDCD846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CB-5E14-4D4E-9979-18F9529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9BD-C039-4727-B344-546A104BDF1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803-8FF3-435A-8D7A-C4E1AB8F017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E04A-0B95-4D83-AC71-468A3E1110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7C7-23A3-460A-9852-9D5ABE8211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19320" y="190512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x0010_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165-F878-49D9-8980-8A2F24F22E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0969-00CD-4CCE-BBF0-79ADB17849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new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CBA6-D8B5-47EB-B99A-003D1FE838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20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20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7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9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9E2-4E28-4137-BC3E-EC7E284AC1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1905120"/>
            <a:ext cx="8686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4220-D3A1-45E9-A3DE-68A7B8BF9B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0DF6-4FDC-40CD-9CDF-8EF31E422A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1A7-66F0-4A72-9A5A-54AF8B4044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5F11-4762-4B38-B10D-C3271461BD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CCB8-56AA-42AF-9287-8D6A4315BE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3A01-362B-4631-AD08-1DC1885582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A971-0EA2-402D-AC58-6F310570C6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234-2C11-4521-89A8-5EC8C40A56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D9C-CB7B-4198-BB42-73FB8D52CC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888-E2B3-4C48-979D-01991643A7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92A6-5E64-4640-B608-DE93D3C476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9ED-8798-48C0-A3DC-1446BCE668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D92F-B50A-4AD6-BF49-4FC33EE20D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77F0-A68C-4F0D-A239-E38E6760BB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71F-2345-4D4C-8BDF-BCF557D98E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E58-67D8-49C0-89A8-7884509D5A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EB9-A6E8-4D00-A17E-3ACE5F22E1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D18-2C96-48A0-8965-7B14FE8CE7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25146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what the big ideas are so that the connections to prior knowledge they are making are more exp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A7D1-E0C2-4DAB-9E72-80E5318E9E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0E9-81E6-4F39-84B4-25C71D5EF8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F8A5-3F6A-41C9-9703-E66B3E3098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B1F-8347-47EE-A8B3-C7A5C2BFAF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A9B-871E-477B-9A84-85981722F8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566-B9F0-442F-93D0-ADFE8CE202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5C8D-B40B-4CA3-A0ED-BAF816A7F6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39F-8EB6-4CC0-87CA-1675E455EE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656-C49D-4C30-B3FC-5CB40A5238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254C-1936-4FE2-891F-8FBBBA5706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682-3DC3-4880-A910-DAFF84EA2E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048-50DD-49C1-A769-42611E7E08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A85B-C8DF-4067-A853-8B15304F69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066680" y="1981080"/>
            <a:ext cx="741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692-1621-44E4-92CE-293BB2B8B1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lated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143000" y="24382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C46-DAF6-49F8-B3AB-19FEA2CB8D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FD4-52E0-4FC2-9E77-45102B1678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4AD-BFCE-4436-9B24-B0060C9180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9411-38C4-4E19-A24D-F040B136BD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1E8-D771-4CF0-A8FD-85AC3AA9A5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 today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D0D-B369-4D42-8423-B19922B892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BB7-2509-458B-9789-18D802E8A6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06668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epare for tomo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important issues in developing lesson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9149-2210-4179-A60A-F824D94767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DC4-22C9-4A62-8CD1-5DB0278C2A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E550-4BAD-42CA-86E4-3DE0FDFFA9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underlying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4DD-CE06-4CC1-9CF4-B39C603E1A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6438-0A1E-4466-8526-98B58EAD30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14400" y="9907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886-FD20-4BA9-B5FD-806A69586B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43A9-71EF-472D-8068-2F30F597D4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01:43Z</dcterms:created>
  <dc:creator>PSteele</dc:creator>
  <dc:description/>
  <dc:language>en-US</dc:language>
  <cp:lastModifiedBy>Marian Small</cp:lastModifiedBy>
  <dcterms:modified xsi:type="dcterms:W3CDTF">2009-07-31T17:53:48Z</dcterms:modified>
  <cp:revision>162</cp:revision>
  <dc:subject/>
  <dc:title>Slide 1</dc:title>
</cp:coreProperties>
</file>